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23.wmf" ContentType="image/x-wmf"/>
  <Override PartName="/ppt/media/image40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42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12.png" ContentType="image/png"/>
  <Override PartName="/ppt/media/image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57E-9F0B-4137-975B-94F226CB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7AA-C03B-4BE4-96F8-C3C9C616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F48-5B56-4071-A2FA-595A52A6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8B4-2B85-4768-9FDF-D54ABE3F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7A5E-7B78-4F51-A25D-1C204B58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F5E7-9785-4A5E-A176-3EE41818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A5F3-DEA1-4A91-84C7-D1E17608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DEB8-9F69-4962-B5CF-7909762F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F0EF-BB0B-4A00-8FC0-0CB21017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6233-94CD-4155-8CA0-E5B99642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A0B8-C6B6-48C6-A841-82398C12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4F7-22D5-472D-A5B7-401A6BAD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CDBE-E8F4-46A0-B855-12F5AB45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7073-1881-48FC-A21F-FCFF4E1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986C-4C1C-424A-90BB-0E8B505B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2579-0B53-471F-80CE-8FC1382B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FEA6-A8AB-488D-903B-15ADF6E7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FDC9A-21F7-4724-A417-3F46B23B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99BF-CD19-4595-B482-A9D1AE0E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1BAD-0446-4415-A0F3-DDC28360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238B-BF96-474C-83ED-A15EBDE2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F5C5-FB51-4898-B600-0FFA4C23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E49-266C-4FFF-84B6-5AC23623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A2B9-D791-4EFC-8E5C-B3A1A064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330B-1EEE-443B-AA57-40F1E63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40B5-5460-4631-852F-55685458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075E-AB2F-4F97-A220-5F1A0AB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FD27-32F1-41F9-BD5E-474ADD2E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A237-854E-4F20-AA05-B894C500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D87A-D5BB-4350-B259-0EDC74C8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C8B0-C5A0-4CF6-8E5B-6372418E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EF98-2C3B-4698-AE86-16700671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143B-D941-41D4-BE8E-38877E3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C02-09AD-4AB1-989A-BCCA2AC4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8549-36CD-443F-8BF7-EB0B72F0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11816-C5C5-4688-B751-540FC0BD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BCD1-F4C2-49A8-A91D-E2427811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809A-18C6-4892-8373-343676F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2E982-2AC6-4A72-A468-46A7F4B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53223-8A74-46F1-91E3-6580BC4D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F3BE8-997A-4FC7-BA92-75E4D3EA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BAF1-97A0-4E2B-B4AD-69116614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2B13-0BB3-48F9-9405-E27CB03D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B892-39FA-462D-A3DC-8B265DEE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05B-964A-41E9-82B0-83177440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5E7C0-EBF9-4874-A2EB-94E3374B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AA67F-7C23-49A7-8EE6-A7A0AE4A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5DE5E-5D58-4346-899F-1B06B2AF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0CD8C-DFF1-4BE3-A73E-35D369BE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EE0E8-4E07-4972-9843-10474E12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9700B-4988-4AC7-AEBA-0D0349B2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764D6-20CA-4384-8A78-021E395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15D5-B317-4EFE-8E81-F7CA76DB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4A8C-2BA7-42D4-9BD9-665096EA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30AF1-EFAB-4660-AE02-CC186DEE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8D4-C7F1-4EEC-BE86-9FC25B52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0022F-EF9E-4B25-AEE8-A785DD01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659-5319-4C7A-9B65-696725A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BF1-B354-4F22-B307-E355BE3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B5B-73C1-4549-8B99-79D7D160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E3E6-DA75-4135-8B88-36CBF1550081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285A-EDCA-453C-9E3F-969A5B26DE97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d3641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CDA1-02C9-48E2-87D5-BD13074F160E}" type="slidenum">
              <a:rPr b="0" lang="es-MX" sz="1200" spc="-1" strike="noStrike">
                <a:solidFill>
                  <a:srgbClr val="1d3641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50F4-F686-47ED-A191-FD97547F27EC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68E0-E4D0-42FD-8414-8EB04E310663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ch@rmin\AppData\Local\Microsoft\Windows\Temporary Internet Files\Content.IE5\A2RJIVVW\MP900433365[1].jpg"/>
          <p:cNvPicPr/>
          <p:nvPr/>
        </p:nvPicPr>
        <p:blipFill>
          <a:blip r:embed="rId1"/>
          <a:stretch/>
        </p:blipFill>
        <p:spPr>
          <a:xfrm>
            <a:off x="1089000" y="366840"/>
            <a:ext cx="6610320" cy="4076640"/>
          </a:xfrm>
          <a:prstGeom prst="rect">
            <a:avLst/>
          </a:prstGeom>
          <a:ln w="0">
            <a:noFill/>
          </a:ln>
        </p:spPr>
      </p:pic>
      <p:pic>
        <p:nvPicPr>
          <p:cNvPr id="391" name="3 Título" descr=""/>
          <p:cNvPicPr/>
          <p:nvPr/>
        </p:nvPicPr>
        <p:blipFill>
          <a:blip r:embed="rId2"/>
          <a:stretch/>
        </p:blipFill>
        <p:spPr>
          <a:xfrm>
            <a:off x="1116000" y="-128520"/>
            <a:ext cx="6997680" cy="2006640"/>
          </a:xfrm>
          <a:prstGeom prst="rect">
            <a:avLst/>
          </a:prstGeom>
          <a:ln w="0">
            <a:noFill/>
          </a:ln>
        </p:spPr>
      </p:pic>
      <p:sp>
        <p:nvSpPr>
          <p:cNvPr id="392" name="5 CuadroTexto"/>
          <p:cNvSpPr/>
          <p:nvPr/>
        </p:nvSpPr>
        <p:spPr>
          <a:xfrm>
            <a:off x="1079640" y="446868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1" i="1" lang="es-MX" sz="2800" spc="-1" strike="noStrike">
                <a:solidFill>
                  <a:srgbClr val="ffffff"/>
                </a:solidFill>
                <a:latin typeface="Tw Cen MT"/>
              </a:rPr>
              <a:t>LA ÚNICA DIFERENCIA ENTRE UN BUEN DÍA Y UN MAL DÍA, ES LA ACTITUD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1 CuadroTexto"/>
          <p:cNvSpPr/>
          <p:nvPr/>
        </p:nvSpPr>
        <p:spPr>
          <a:xfrm>
            <a:off x="971640" y="5397480"/>
            <a:ext cx="70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w Cen MT"/>
              </a:rPr>
              <a:t>Zona 072                   Asesores académicos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ra. Areli Jaziel Corona Niet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ra. Ana Patricia Pérez Obreg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. Humberto Cardiel Juárez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291960" y="212760"/>
            <a:ext cx="8480520" cy="853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916000" y="1197000"/>
            <a:ext cx="58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ocer a través de una disciplina determinada, los contenidos que hay que enseñar su traducción de los objetivo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representaciones para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errores y obstáculos en el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struir y planificar dispositivos y secuencias did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 a los alumnos en las actividades de investigación, en proyectos de conocimient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9" name="Picture 2" descr="C:\Users\ch@rmin\AppData\Local\Microsoft\Windows\Temporary Internet Files\Content.IE5\P85A7GK5\MC900088884[1].wmf"/>
          <p:cNvPicPr/>
          <p:nvPr/>
        </p:nvPicPr>
        <p:blipFill>
          <a:blip r:embed="rId2"/>
          <a:stretch/>
        </p:blipFill>
        <p:spPr>
          <a:xfrm>
            <a:off x="412920" y="1484280"/>
            <a:ext cx="2282760" cy="1944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603360" y="3645000"/>
            <a:ext cx="2047680" cy="2238120"/>
          </a:xfrm>
          <a:prstGeom prst="rect">
            <a:avLst/>
          </a:prstGeom>
          <a:ln w="0">
            <a:noFill/>
          </a:ln>
        </p:spPr>
      </p:pic>
      <p:sp>
        <p:nvSpPr>
          <p:cNvPr id="421" name="3 Flecha curvada hacia la izquierda"/>
          <p:cNvSpPr/>
          <p:nvPr/>
        </p:nvSpPr>
        <p:spPr>
          <a:xfrm>
            <a:off x="7956720" y="6021360"/>
            <a:ext cx="576000" cy="432000"/>
          </a:xfrm>
          <a:custGeom>
            <a:avLst/>
            <a:gdLst>
              <a:gd name="textAreaLeft" fmla="*/ 77040 w 576000"/>
              <a:gd name="textAreaRight" fmla="*/ 498960 w 576000"/>
              <a:gd name="textAreaTop" fmla="*/ 67320 h 432000"/>
              <a:gd name="textAreaBottom" fmla="*/ 3106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16487"/>
                <a:lnTo>
                  <a:pt x="4046" y="21481"/>
                </a:lnTo>
                <a:lnTo>
                  <a:pt x="0" y="16200"/>
                </a:lnTo>
                <a:lnTo>
                  <a:pt x="4046" y="10681"/>
                </a:lnTo>
                <a:lnTo>
                  <a:pt x="4046" y="13381"/>
                </a:lnTo>
                <a:arcTo wR="21600" hR="6750" stAng="3516487" swAng="-305050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6840" y="1196640"/>
            <a:ext cx="526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cebir y hacer frente a situaciones problemáticas ajustadas al nivel y a las posibilidades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quirir una visión longitudinal de los problemas de la enseñanz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vínculos con la teorías que sostienen las actividade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bservar y evaluar a los alumnos en situaciones de aprendizaje según el enfoque de cada asignatur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controles periódicos de competencias y tomar decisiones de progresión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3" name="4 Rectángulo"/>
          <p:cNvSpPr/>
          <p:nvPr/>
        </p:nvSpPr>
        <p:spPr>
          <a:xfrm>
            <a:off x="1547640" y="439560"/>
            <a:ext cx="640908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2. Administrar la progresión de aprendizaje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078360" cy="3148200"/>
          </a:xfrm>
          <a:prstGeom prst="rect">
            <a:avLst/>
          </a:prstGeom>
          <a:ln w="0">
            <a:noFill/>
          </a:ln>
        </p:spPr>
      </p:pic>
      <p:sp>
        <p:nvSpPr>
          <p:cNvPr id="425" name="1 Flecha curvada hacia la izquierda"/>
          <p:cNvSpPr/>
          <p:nvPr/>
        </p:nvSpPr>
        <p:spPr>
          <a:xfrm>
            <a:off x="7956720" y="5950080"/>
            <a:ext cx="647640" cy="574560"/>
          </a:xfrm>
          <a:custGeom>
            <a:avLst/>
            <a:gdLst>
              <a:gd name="textAreaLeft" fmla="*/ 86760 w 647640"/>
              <a:gd name="textAreaRight" fmla="*/ 560880 w 647640"/>
              <a:gd name="textAreaTop" fmla="*/ 89640 h 574560"/>
              <a:gd name="textAreaBottom" fmla="*/ 412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36927"/>
                <a:lnTo>
                  <a:pt x="4791" y="21432"/>
                </a:lnTo>
                <a:lnTo>
                  <a:pt x="0" y="16200"/>
                </a:lnTo>
                <a:lnTo>
                  <a:pt x="4791" y="10632"/>
                </a:lnTo>
                <a:lnTo>
                  <a:pt x="4791" y="13332"/>
                </a:lnTo>
                <a:arcTo wR="21600" hR="6750" stAng="3236927" swAng="-277094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la heterogeneidad en el mismo grup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mpartimentar: extender la gestión de clase a un espacio más ampli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acticar un apoyo integrado: trabajar con alumnos con grandes dificultad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la cooperación entre alumnos y ciertas formas simples de enseñanza mutu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7" name="3 Rectángulo"/>
          <p:cNvSpPr/>
          <p:nvPr/>
        </p:nvSpPr>
        <p:spPr>
          <a:xfrm>
            <a:off x="324000" y="487440"/>
            <a:ext cx="856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3. Concebir y hacer evolucionar los dispositivos de diferenciac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1420920" y="4352760"/>
            <a:ext cx="2908080" cy="2178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5076720" y="4352760"/>
            <a:ext cx="2735280" cy="2028960"/>
          </a:xfrm>
          <a:prstGeom prst="rect">
            <a:avLst/>
          </a:prstGeom>
          <a:ln w="0">
            <a:noFill/>
          </a:ln>
        </p:spPr>
      </p:pic>
      <p:sp>
        <p:nvSpPr>
          <p:cNvPr id="430" name="4 Flecha izquierda"/>
          <p:cNvSpPr/>
          <p:nvPr/>
        </p:nvSpPr>
        <p:spPr>
          <a:xfrm>
            <a:off x="8070840" y="6093000"/>
            <a:ext cx="576360" cy="288720"/>
          </a:xfrm>
          <a:prstGeom prst="leftArrow">
            <a:avLst>
              <a:gd name="adj1" fmla="val 50000"/>
              <a:gd name="adj2" fmla="val 50045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3141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mentar el deseo de aprender, explicitar la relación con el conocimiento, el sentido del trabajo escolar y desarrollar la capacidad de auto-evaluación en el niñ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nstruir y hacer funcionar un consejo de alumnos y negociar con ellos varios tipos de reglas y acuerd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frecer actividades de formación opcionales, es decir, “ A la Carta”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avorecer la definición de un proyecto personal del alumn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2" name="3 Rectángulo"/>
          <p:cNvSpPr/>
          <p:nvPr/>
        </p:nvSpPr>
        <p:spPr>
          <a:xfrm>
            <a:off x="324000" y="353880"/>
            <a:ext cx="842472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4. Envolver a los alumnos en sus aprendizajes y en su trabajo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105000" y="981000"/>
            <a:ext cx="2762280" cy="2114640"/>
          </a:xfrm>
          <a:prstGeom prst="rect">
            <a:avLst/>
          </a:prstGeom>
          <a:ln w="0">
            <a:noFill/>
          </a:ln>
        </p:spPr>
      </p:pic>
      <p:sp>
        <p:nvSpPr>
          <p:cNvPr id="434" name="4 Flecha curvada hacia la izquierda"/>
          <p:cNvSpPr/>
          <p:nvPr/>
        </p:nvSpPr>
        <p:spPr>
          <a:xfrm>
            <a:off x="8340840" y="5805360"/>
            <a:ext cx="407880" cy="432000"/>
          </a:xfrm>
          <a:custGeom>
            <a:avLst/>
            <a:gdLst>
              <a:gd name="textAreaLeft" fmla="*/ 54360 w 407880"/>
              <a:gd name="textAreaRight" fmla="*/ 353520 w 407880"/>
              <a:gd name="textAreaTop" fmla="*/ 69480 h 432000"/>
              <a:gd name="textAreaBottom" fmla="*/ 311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974" stAng="-5400000" swAng="5400000"/>
                <a:lnTo>
                  <a:pt x="21600" y="12076"/>
                </a:lnTo>
                <a:arcTo wR="21600" hR="6974" stAng="0" swAng="3080924"/>
                <a:lnTo>
                  <a:pt x="5400" y="21379"/>
                </a:lnTo>
                <a:lnTo>
                  <a:pt x="0" y="16498"/>
                </a:lnTo>
                <a:lnTo>
                  <a:pt x="5400" y="11175"/>
                </a:lnTo>
                <a:lnTo>
                  <a:pt x="5400" y="13726"/>
                </a:lnTo>
                <a:arcTo wR="21600" hR="6974" stAng="3080924" swAng="-2647002"/>
                <a:lnTo>
                  <a:pt x="20103" y="9525"/>
                </a:lnTo>
                <a:arcTo wR="21600" hR="6974" stAng="-433922" swAng="-4966078"/>
                <a:close/>
              </a:path>
              <a:path fill="darkenLess" w="21600" h="21600">
                <a:moveTo>
                  <a:pt x="0" y="0"/>
                </a:moveTo>
                <a:arcTo wR="21600" hR="6974" stAng="-5400000" swAng="5400000"/>
                <a:lnTo>
                  <a:pt x="21600" y="12076"/>
                </a:lnTo>
                <a:arcTo wR="21600" hR="6974" stAng="0" swAng="-433922"/>
                <a:lnTo>
                  <a:pt x="20103" y="9525"/>
                </a:lnTo>
                <a:arcTo wR="21600" hR="6974" stAng="-433922" swAng="-4966078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132000" y="1600200"/>
            <a:ext cx="5554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un proyecto de equipo de representaciones comun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ulsar un grupo de trabajo, dirigir reunion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rmar y renovar un equipo pedagógic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frontar y analizar conjuntamente situaciones complejas, prácticas y problemas profesion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crisis o conflictos entre person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6" name="3 Rectángulo"/>
          <p:cNvSpPr/>
          <p:nvPr/>
        </p:nvSpPr>
        <p:spPr>
          <a:xfrm>
            <a:off x="3635280" y="523800"/>
            <a:ext cx="4969080" cy="58140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w Cen MT"/>
              </a:rPr>
              <a:t>5. Trabajar en equipo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539640" y="108252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2548080" cy="2548080"/>
          </a:xfrm>
          <a:prstGeom prst="rect">
            <a:avLst/>
          </a:prstGeom>
          <a:ln w="0">
            <a:noFill/>
          </a:ln>
        </p:spPr>
      </p:pic>
      <p:sp>
        <p:nvSpPr>
          <p:cNvPr id="439" name="4 Flecha curvada hacia la izquierda"/>
          <p:cNvSpPr/>
          <p:nvPr/>
        </p:nvSpPr>
        <p:spPr>
          <a:xfrm>
            <a:off x="7885080" y="5877000"/>
            <a:ext cx="719280" cy="531720"/>
          </a:xfrm>
          <a:custGeom>
            <a:avLst/>
            <a:gdLst>
              <a:gd name="textAreaLeft" fmla="*/ 96120 w 719280"/>
              <a:gd name="textAreaRight" fmla="*/ 623160 w 719280"/>
              <a:gd name="textAreaTop" fmla="*/ 82800 h 531720"/>
              <a:gd name="textAreaBottom" fmla="*/ 38232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37300"/>
                <a:lnTo>
                  <a:pt x="3993" y="21484"/>
                </a:lnTo>
                <a:lnTo>
                  <a:pt x="0" y="16200"/>
                </a:lnTo>
                <a:lnTo>
                  <a:pt x="3993" y="10684"/>
                </a:lnTo>
                <a:lnTo>
                  <a:pt x="3993" y="13384"/>
                </a:lnTo>
                <a:arcTo wR="21600" hR="6750" stAng="3537300" swAng="-3071314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341000"/>
            <a:ext cx="505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y negociar un proyecto instituciona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ministrar los recursos de la escuel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ordinar, fomentar una escuela con todos los componentes, (extraescolares, del barrio, asociaciones de padres de familia, profesores de lengua y cultura de orige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rganizar y hacer evolucionar, en la misma escuela, la participación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1" name="3 Rectángulo"/>
          <p:cNvSpPr/>
          <p:nvPr/>
        </p:nvSpPr>
        <p:spPr>
          <a:xfrm>
            <a:off x="755640" y="476280"/>
            <a:ext cx="756144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6. Participar en la administración de la escuel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5578560" y="1341360"/>
            <a:ext cx="3074760" cy="2190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5578560" y="3855960"/>
            <a:ext cx="3082680" cy="2309760"/>
          </a:xfrm>
          <a:prstGeom prst="rect">
            <a:avLst/>
          </a:prstGeom>
          <a:ln w="0">
            <a:noFill/>
          </a:ln>
        </p:spPr>
      </p:pic>
      <p:sp>
        <p:nvSpPr>
          <p:cNvPr id="444" name="4 Flecha izquierda"/>
          <p:cNvSpPr/>
          <p:nvPr/>
        </p:nvSpPr>
        <p:spPr>
          <a:xfrm>
            <a:off x="4284720" y="6021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84200" y="783720"/>
            <a:ext cx="5338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Favorecer reuniones informativas y de debate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Dirigir la reunione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Implicar a los padres en la valoración de la construcción de los conocimiento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6" name="3 Rectángulo"/>
          <p:cNvSpPr/>
          <p:nvPr/>
        </p:nvSpPr>
        <p:spPr>
          <a:xfrm>
            <a:off x="484200" y="260280"/>
            <a:ext cx="5505480" cy="94716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7. Informar y envolver a los padre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4 Rectángulo"/>
          <p:cNvSpPr/>
          <p:nvPr/>
        </p:nvSpPr>
        <p:spPr>
          <a:xfrm>
            <a:off x="3363840" y="2709720"/>
            <a:ext cx="524988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8. Utilizar nuevas tecnología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2 Marcador de contenido"/>
          <p:cNvSpPr/>
          <p:nvPr/>
        </p:nvSpPr>
        <p:spPr>
          <a:xfrm>
            <a:off x="3111480" y="3232080"/>
            <a:ext cx="5853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“ </a:t>
            </a: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El deber de los profesores es integrarse en el universo de los alumnos”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programas de edición de los document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Explorar los potenciales didácticos de programas en relación con los objetivos de domini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Comunicarse a distancia a través de la telemática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instrumentos de multimedia en la enseñanza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395280" y="3578400"/>
            <a:ext cx="2681280" cy="2601720"/>
          </a:xfrm>
          <a:prstGeom prst="rect">
            <a:avLst/>
          </a:prstGeom>
          <a:ln w="0">
            <a:noFill/>
          </a:ln>
        </p:spPr>
      </p:pic>
      <p:sp>
        <p:nvSpPr>
          <p:cNvPr id="451" name="6 Flecha curvada hacia la izquierda"/>
          <p:cNvSpPr/>
          <p:nvPr/>
        </p:nvSpPr>
        <p:spPr>
          <a:xfrm>
            <a:off x="8028000" y="6180120"/>
            <a:ext cx="585720" cy="344520"/>
          </a:xfrm>
          <a:custGeom>
            <a:avLst/>
            <a:gdLst>
              <a:gd name="textAreaLeft" fmla="*/ 78480 w 585720"/>
              <a:gd name="textAreaRight" fmla="*/ 507240 w 585720"/>
              <a:gd name="textAreaTop" fmla="*/ 53640 h 344520"/>
              <a:gd name="textAreaBottom" fmla="*/ 2476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873605"/>
                <a:lnTo>
                  <a:pt x="3176" y="21527"/>
                </a:lnTo>
                <a:lnTo>
                  <a:pt x="0" y="16200"/>
                </a:lnTo>
                <a:lnTo>
                  <a:pt x="3176" y="10727"/>
                </a:lnTo>
                <a:lnTo>
                  <a:pt x="3176" y="13427"/>
                </a:lnTo>
                <a:arcTo wR="21600" hR="6750" stAng="3873605" swAng="-3407619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531360" y="980640"/>
            <a:ext cx="81867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evenir la violencia en la escuela o en la ciudad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Luchar contra los prejuicios y las discriminaciones sexuales, étnicas y soci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articipar en la creación de reglas de la vida común referentes a la disciplina en la escuela, las sanciones, la apreciación dela conduct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nalizar la relación pedagógica, la autoridad y la comunicación en la clas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el sentido de la responsabilidad, la solidaridad y el sentimiento de justici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3" name="3 Rectángulo"/>
          <p:cNvSpPr/>
          <p:nvPr/>
        </p:nvSpPr>
        <p:spPr>
          <a:xfrm>
            <a:off x="539640" y="349200"/>
            <a:ext cx="820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9. Enfrentar los deberes y los dilemas éticos de la profes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547640" y="5022720"/>
            <a:ext cx="2232360" cy="162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5292720" y="5022720"/>
            <a:ext cx="1808280" cy="1611360"/>
          </a:xfrm>
          <a:prstGeom prst="rect">
            <a:avLst/>
          </a:prstGeom>
          <a:ln w="0">
            <a:noFill/>
          </a:ln>
        </p:spPr>
      </p:pic>
      <p:sp>
        <p:nvSpPr>
          <p:cNvPr id="456" name="4 Flecha curvada hacia la izquierda"/>
          <p:cNvSpPr/>
          <p:nvPr/>
        </p:nvSpPr>
        <p:spPr>
          <a:xfrm>
            <a:off x="7956720" y="5950080"/>
            <a:ext cx="502920" cy="431640"/>
          </a:xfrm>
          <a:custGeom>
            <a:avLst/>
            <a:gdLst>
              <a:gd name="textAreaLeft" fmla="*/ 67320 w 502920"/>
              <a:gd name="textAreaRight" fmla="*/ 435600 w 502920"/>
              <a:gd name="textAreaTop" fmla="*/ 67320 h 431640"/>
              <a:gd name="textAreaBottom" fmla="*/ 3103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4198"/>
                <a:lnTo>
                  <a:pt x="4633" y="21443"/>
                </a:lnTo>
                <a:lnTo>
                  <a:pt x="0" y="16200"/>
                </a:lnTo>
                <a:lnTo>
                  <a:pt x="4633" y="10643"/>
                </a:lnTo>
                <a:lnTo>
                  <a:pt x="4633" y="13343"/>
                </a:lnTo>
                <a:arcTo wR="21600" hR="6750" stAng="3294198" swAng="-282821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26960" y="29973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Saber explicar sus pr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un control de competencias y un programa personal de formación continú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Negociar un proyecto de formación común con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se en la tareas a nivel general de la enseñanza o sistema educativ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ceptar y participar en la formación de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8" name="3 Rectángulo"/>
          <p:cNvSpPr/>
          <p:nvPr/>
        </p:nvSpPr>
        <p:spPr>
          <a:xfrm>
            <a:off x="187560" y="549360"/>
            <a:ext cx="8532360" cy="5205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10. Administrar sus propia formación continúa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2 Marcador de contenido" descr=""/>
          <p:cNvPicPr/>
          <p:nvPr/>
        </p:nvPicPr>
        <p:blipFill>
          <a:blip r:embed="rId1"/>
          <a:stretch/>
        </p:blipFill>
        <p:spPr>
          <a:xfrm>
            <a:off x="-165240" y="396720"/>
            <a:ext cx="9176040" cy="6126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Título" descr=""/>
          <p:cNvPicPr/>
          <p:nvPr/>
        </p:nvPicPr>
        <p:blipFill>
          <a:blip r:embed="rId1"/>
          <a:stretch/>
        </p:blipFill>
        <p:spPr>
          <a:xfrm>
            <a:off x="3565440" y="549360"/>
            <a:ext cx="5413320" cy="25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4076280"/>
            <a:ext cx="67788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dfe6d0"/>
                </a:solidFill>
                <a:latin typeface="Tw Cen MT"/>
              </a:rPr>
              <a:t>        </a:t>
            </a:r>
            <a:endParaRPr b="0" lang="en-US" sz="8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Si quieres cambiar al mundo, cámbiate a ti mismo” (Mahatma Gandhi)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6" name="Picture 2" descr="C:\Users\ch@rmin\AppData\Local\Microsoft\Windows\Temporary Internet Files\Content.IE5\A2RJIVVW\MC900435410[1].wmf"/>
          <p:cNvPicPr/>
          <p:nvPr/>
        </p:nvPicPr>
        <p:blipFill>
          <a:blip r:embed="rId2"/>
          <a:stretch/>
        </p:blipFill>
        <p:spPr>
          <a:xfrm>
            <a:off x="6980400" y="3357720"/>
            <a:ext cx="1488960" cy="185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Users\ch@rmin\AppData\Local\Microsoft\Windows\Temporary Internet Files\Content.IE5\6KDBY9K4\MP900409048[1].jpg"/>
          <p:cNvPicPr/>
          <p:nvPr/>
        </p:nvPicPr>
        <p:blipFill>
          <a:blip r:embed="rId3"/>
          <a:stretch/>
        </p:blipFill>
        <p:spPr>
          <a:xfrm>
            <a:off x="1258920" y="1989000"/>
            <a:ext cx="2952720" cy="196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63" name="3 Diagrama" descr=""/>
          <p:cNvPicPr/>
          <p:nvPr/>
        </p:nvPicPr>
        <p:blipFill>
          <a:blip r:embed="rId1"/>
          <a:stretch/>
        </p:blipFill>
        <p:spPr>
          <a:xfrm>
            <a:off x="755640" y="469800"/>
            <a:ext cx="784548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2 Marcador de contenido" descr=""/>
          <p:cNvPicPr/>
          <p:nvPr/>
        </p:nvPicPr>
        <p:blipFill>
          <a:blip r:embed="rId1"/>
          <a:stretch/>
        </p:blipFill>
        <p:spPr>
          <a:xfrm>
            <a:off x="96840" y="195120"/>
            <a:ext cx="868212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6. Propicia un ambiente escolar para un aprendizaje y un desarrollo sano e integral de los estudiant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7. Se auto determina y cuida de sí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8. Se expresa y se comun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9. Piensa crítica y con reflexió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0. Aprende de forma autónom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1. Trabaja de forma colaborativ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2. Participa con responsabilidad soci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3. Organiza su formación continua en su trayectoria profesion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1258920" y="322200"/>
            <a:ext cx="6626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1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Un alumno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competente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no es aquel que sabe más en teoría, sino aquel que pone el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práctica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lo que ha aprendido adelantándose siempre a lo que es obvio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Picture 2" descr="C:\Users\ch@rmin\AppData\Local\Microsoft\Windows\Temporary Internet Files\Content.IE5\A2RJIVVW\MC900343353[1].wmf"/>
          <p:cNvPicPr/>
          <p:nvPr/>
        </p:nvPicPr>
        <p:blipFill>
          <a:blip r:embed="rId2"/>
          <a:stretch/>
        </p:blipFill>
        <p:spPr>
          <a:xfrm>
            <a:off x="3132000" y="3573360"/>
            <a:ext cx="302436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1 Título" descr=""/>
          <p:cNvPicPr/>
          <p:nvPr/>
        </p:nvPicPr>
        <p:blipFill>
          <a:blip r:embed="rId1"/>
          <a:stretch/>
        </p:blipFill>
        <p:spPr>
          <a:xfrm>
            <a:off x="73080" y="219240"/>
            <a:ext cx="9028080" cy="1712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:\Users\ch@rmin\AppData\Local\Microsoft\Windows\Temporary Internet Files\Content.IE5\A2RJIVVW\MP900409335[1].jpg"/>
          <p:cNvPicPr/>
          <p:nvPr/>
        </p:nvPicPr>
        <p:blipFill>
          <a:blip r:embed="rId2"/>
          <a:stretch/>
        </p:blipFill>
        <p:spPr>
          <a:xfrm>
            <a:off x="1258920" y="1628640"/>
            <a:ext cx="6589800" cy="439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El cambio en los paradigmas educativos actuales (RIEB), genera un cambio en los docentes”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1979640" y="2557440"/>
            <a:ext cx="526248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06" name="4 Marcador de contenido" descr=""/>
          <p:cNvPicPr/>
          <p:nvPr/>
        </p:nvPicPr>
        <p:blipFill>
          <a:blip r:embed="rId2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 docentes don un cúmulo de habilidades, conocimientos y procesos orientados a lograr un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desempeño óptimo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adecuado en el área educativa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s docentes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son varias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cada una exige un dominio y desarrollo alto para ser capaz de enfrentar las situaciones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4249800" cy="2592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4670280" y="3645000"/>
            <a:ext cx="4294440" cy="257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184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6800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3 Rectángulo" descr=""/>
          <p:cNvPicPr/>
          <p:nvPr/>
        </p:nvPicPr>
        <p:blipFill>
          <a:blip r:embed="rId2"/>
          <a:stretch/>
        </p:blipFill>
        <p:spPr>
          <a:xfrm>
            <a:off x="469800" y="262080"/>
            <a:ext cx="8491680" cy="3133440"/>
          </a:xfrm>
          <a:prstGeom prst="rect">
            <a:avLst/>
          </a:prstGeom>
          <a:ln w="0">
            <a:noFill/>
          </a:ln>
        </p:spPr>
      </p:pic>
      <p:pic>
        <p:nvPicPr>
          <p:cNvPr id="413" name="4 Rectángulo" descr=""/>
          <p:cNvPicPr/>
          <p:nvPr/>
        </p:nvPicPr>
        <p:blipFill>
          <a:blip r:embed="rId3"/>
          <a:stretch/>
        </p:blipFill>
        <p:spPr>
          <a:xfrm>
            <a:off x="3633840" y="3121200"/>
            <a:ext cx="526104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1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1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Users\ch@rmin\AppData\Local\Microsoft\Windows\Temporary Internet Files\Content.IE5\A2RJIVVW\MC900434901[1].png"/>
          <p:cNvPicPr/>
          <p:nvPr/>
        </p:nvPicPr>
        <p:blipFill>
          <a:blip r:embed="rId2"/>
          <a:stretch/>
        </p:blipFill>
        <p:spPr>
          <a:xfrm>
            <a:off x="6732720" y="3141720"/>
            <a:ext cx="2286000" cy="2789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3" action="ppaction://hlinksldjump"/>
              </a:rPr>
              <a:t>Organizar y dirigir situaciones de aprendizaje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4" action="ppaction://hlinksldjump"/>
              </a:rPr>
              <a:t>Administrar la progresión de aprendizaj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5" action="ppaction://hlinksldjump"/>
              </a:rPr>
              <a:t>Concebir y hacer evolucionar los dispositivos de diferenciac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6" action="ppaction://hlinksldjump"/>
              </a:rPr>
              <a:t>Envolver a los alumnos en sus aprendizajes y en su trabaj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7" action="ppaction://hlinksldjump"/>
              </a:rPr>
              <a:t>Trabajar en equip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8" action="ppaction://hlinksldjump"/>
              </a:rPr>
              <a:t>Participar en la administración de la escuela</a:t>
            </a: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Informar y envolver a los padr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Utilizar nuevas tecnología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Enfrentar los deberes y los dilemas éticos de la profes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Administrar sus propia formación continúa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9:28:58Z</dcterms:created>
  <dc:creator>ch@rmin</dc:creator>
  <dc:description/>
  <dc:language>en-US</dc:language>
  <cp:lastModifiedBy>ch@rmin</cp:lastModifiedBy>
  <dcterms:modified xsi:type="dcterms:W3CDTF">2012-02-20T15:44:10Z</dcterms:modified>
  <cp:revision>34</cp:revision>
  <dc:subject/>
  <dc:title>¡BIENVENIDOS!</dc:title>
</cp:coreProperties>
</file>